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95FA-5DD4-4612-89D2-9D8CC419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75A5-660F-4FEE-B4FD-3E6EF528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D38A-2857-4EE8-8495-FAE26792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DDFF-8159-4325-8D61-105545FC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9AE9-46B8-4B17-8C7D-B6A2EF7D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B0FD-C316-4EDA-AF90-E4D20F15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4D65-0119-4A20-A959-569573DE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2BA0-4022-4B0D-B1E3-9B78E4AB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9039-2DBE-4983-9565-3857B014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8977-45E3-42D0-989F-3E3BABF2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C4AE-8923-42B1-85C4-E74014FA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1F4A-2812-4723-BD52-FAEE87D0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FF93-83B5-4E79-B708-28C341887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8000" y="179280"/>
            <a:ext cx="8964720" cy="66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947880"/>
            <a:ext cx="8424720" cy="4332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860360" y="611352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. Schwetz à NNN05 7-9 avr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52160" y="420840"/>
            <a:ext cx="48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ée des dégénérescences par LBL + AT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timization of Proton Beam E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457200" y="1600200"/>
          <a:ext cx="8229600" cy="4743360"/>
        </p:xfrm>
        <a:graphic>
          <a:graphicData uri="http://schemas.openxmlformats.org/drawingml/2006/table">
            <a:tbl>
              <a:tblPr/>
              <a:tblGrid>
                <a:gridCol w="1646280"/>
                <a:gridCol w="1644480"/>
                <a:gridCol w="1648080"/>
                <a:gridCol w="1644480"/>
                <a:gridCol w="164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3333ff"/>
                          </a:solidFill>
                          <a:latin typeface="Times New Roman"/>
                        </a:rPr>
                        <a:t>proton</a:t>
                      </a: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G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2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-oscil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</a:t>
                      </a:r>
                      <a:r>
                        <a:rPr b="0" lang="el-G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9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9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2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0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cill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rins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am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r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Signific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S/ (N</a:t>
                      </a:r>
                      <a:r>
                        <a:rPr b="0" lang="en-US" sz="2000" spc="-1" strike="noStrike" baseline="-25000">
                          <a:solidFill>
                            <a:srgbClr val="339933"/>
                          </a:solidFill>
                          <a:latin typeface="Times New Roman"/>
                        </a:rPr>
                        <a:t>total</a:t>
                      </a:r>
                      <a:r>
                        <a:rPr b="0" lang="en-US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000" spc="-1" strike="noStrike" baseline="30000">
                          <a:solidFill>
                            <a:srgbClr val="339933"/>
                          </a:solidFill>
                          <a:latin typeface="Times New Roman"/>
                        </a:rPr>
                        <a:t>1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.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.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.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.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7469280" y="6521400"/>
            <a:ext cx="1748880" cy="3373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ampagne + Caz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6172200"/>
            <a:ext cx="772776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0% Increase in significance at higher energy: 3.5 or 4.5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00160" y="208080"/>
            <a:ext cx="3222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.Ellis à NNN05 7-9 avr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474920"/>
            <a:ext cx="455940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8320" y="2008080"/>
            <a:ext cx="4162320" cy="3353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 flipV="1">
            <a:off x="2895120" y="2895480"/>
            <a:ext cx="228600" cy="106704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3581280" y="358128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809880" y="3733560"/>
            <a:ext cx="7632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62720" y="2590560"/>
            <a:ext cx="609480" cy="6858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33600" y="320688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P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+ 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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km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0"/>
            <a:ext cx="777240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bining SPL and </a:t>
            </a:r>
            <a:r>
              <a:rPr b="0" lang="el-G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16600" y="6165720"/>
            <a:ext cx="3222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.Ellis à NNN05 7-9 avr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2:22:36Z</dcterms:created>
  <dc:creator>J.E Campagne</dc:creator>
  <dc:description/>
  <dc:language>en-US</dc:language>
  <cp:lastModifiedBy>J.E Campagne</cp:lastModifiedBy>
  <dcterms:modified xsi:type="dcterms:W3CDTF">2005-04-26T12:23:40Z</dcterms:modified>
  <cp:revision>1</cp:revision>
  <dc:subject/>
  <dc:title>Diapositive 1</dc:title>
</cp:coreProperties>
</file>